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223-03C2-44A8-9D08-86B8014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DF1-AABA-4A05-889C-F0B2943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88A-D6ED-48F5-9425-A5A69AEC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1C0-EB28-46C9-9F1D-D9EBE77D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BC9-CBBD-40E6-9BE6-8B0E7E5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86C-C716-4FD5-9D17-CB73B61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64F-C887-485F-8AD8-481FD69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27-3F7F-4F59-9269-F9CC6059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F53-E737-4E90-B55A-F74E6A4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F60-2AF5-4991-9ECA-C8E5546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45B-2F4F-44A3-B7F0-20B7AB1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E55-B49C-4A5A-A05C-95113AC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DE4-1936-46D3-AA64-934865B32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es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es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les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les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les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les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les1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les1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s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les1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les1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les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les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les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les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es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es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es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es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01:47Z</dcterms:created>
  <dc:creator>fabio.medessi</dc:creator>
  <dc:description/>
  <dc:language>en-US</dc:language>
  <cp:lastModifiedBy>fabio.medessi</cp:lastModifiedBy>
  <dcterms:modified xsi:type="dcterms:W3CDTF">2010-07-19T09:16:47Z</dcterms:modified>
  <cp:revision>3</cp:revision>
  <dc:subject/>
  <dc:title>Presentazione di PowerPoint</dc:title>
</cp:coreProperties>
</file>